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236A-0B56-4DB5-B47A-794B5D2C00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F7D-AEA1-4F88-BA2B-B3989DF3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B3E-E840-44A6-A172-F7A6361F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020-5A58-4646-8673-BA84C806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D14-1A16-4930-876F-840F3CDE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A55F-7E70-4B1C-8632-9B7DC957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8C90-4645-42F2-8B14-71233E42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DB7C-D577-43BA-86AA-701AB98D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AE91-70FC-4DFA-BB4A-90A040B0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A47C-EFE9-4312-BBBA-1E2C661A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A924-0BD2-4001-877A-05D09E6F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AA19-3AC2-4247-AF03-AFD1511E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079-8979-4524-B190-FF4B3242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BA85-1EF7-4E6E-91C5-93E524A5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1DC0-2F61-4AC9-9511-EBAB8284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50DA-384C-4240-8D87-71A549BA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55EB-7A03-446D-B863-B2783F02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A3D1-137C-453A-99D6-AF97543B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E94-0DE6-4D31-B262-9AE82D07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33B-E7BE-4786-B6A1-FF65736F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B8D-713C-4936-9D0E-413F7446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5D2-D6CD-4320-A63C-352376BC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2FD-5E11-4D17-8FEC-0344E965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18F-8F15-45DB-AE95-F63FE5C9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A58-6022-4A81-902F-A6676E91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CC6A-47C9-4BB6-B116-C1D1B7BF9230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FA6F-CCE7-47DA-9153-FC3EFE43277B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808080"/>
                </a:solidFill>
                <a:latin typeface="Century Gothic"/>
              </a:rPr>
              <a:t>Resultant Forces</a:t>
            </a:r>
            <a:endParaRPr b="0" lang="en-US" sz="6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63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12000" cy="2146320"/>
          </a:xfrm>
          <a:prstGeom prst="rect">
            <a:avLst/>
          </a:prstGeom>
          <a:ln w="25560">
            <a:solidFill>
              <a:srgbClr val="c0c0c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acting on a particle have magnitudes 8N and 3N. The angle between their directions is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. Find the resultant force acting on the particl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hree forces (2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–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3i N and (-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+ 4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where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re unit vectors due east and due north respectively, act on a particle. Find the magnitude and direction of the resulting forc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Forces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ct on a particle at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plane of the coordinate ax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y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making angl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respectively with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first quadr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 N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5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09:05Z</dcterms:created>
  <dc:creator>zafer</dc:creator>
  <dc:description/>
  <cp:keywords/>
  <dc:language>en-US</dc:language>
  <cp:lastModifiedBy>RomaK</cp:lastModifiedBy>
  <dcterms:modified xsi:type="dcterms:W3CDTF">2015-09-03T12:36:45Z</dcterms:modified>
  <cp:revision>4</cp:revision>
  <dc:subject/>
  <dc:title>Forces as Ve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